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68A-571E-415D-B860-19EDBA12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1511-4659-4313-9366-8D175F98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E59-E34D-40FE-81B9-0E60496F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62F-8DAC-41EA-913B-8790A09B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2182-AC04-497F-9EA6-D2F4CEC7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2AF3-2589-42C3-BF6E-FEBD12B3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560-7FC7-4824-AE21-26DDCE4D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E44-559A-436A-AF9E-ACB33F8F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30F-8074-4634-9905-E1990CE2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F7F1-1FD9-4A5A-8B16-DCC8565F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A679-CEAD-43DA-B779-B42B0DDE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D93-8701-40F6-A328-99953449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C8F9-F149-458F-A4A7-BEB859CACA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ultural dimension of biomedicine and pharmaceutica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Mothers giving medicines to their sick childr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Have therapeutic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Confirm that mother c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Send that message to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To husband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Which reinforces therapeutic effec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Women in distress relying on benzodiazepi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Medicines enable them to stay in control of their lives, socially, psychologically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But the dependence on the medicines also produces feelings of disempower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alatino"/>
                <a:ea typeface="Times New Roman"/>
              </a:rPr>
              <a:t>Nett effect could be discomfort and distress at a deeper lev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doc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way of dealing with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uncertain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token of conc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asserts doctor’s professional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auth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ption becomes itself a medic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Prescribing is a symbolic act to terminate 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    a consult in a positive mood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: scientific claims and commercial ai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ines are commodities that should produce pro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efficacy is scientifically pr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ufacturers believe in the efficacy of their prod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makers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words that should be used convincingly in documents produced for political autho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items, which, if managed well, legitimise political authority; if not managed well, they diminish credibility of politici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cines are essential ingredients in health care which are however difficult to control due to their commercial and other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ommod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(re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cr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rmac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ifficult to contr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re culturally reinterpr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t-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yang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sential medicines also escape control of health care 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di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ural re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-EXOT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cal anthropology at home (home-coming of anthropology; a logical result of studying the Oth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udying familiar things abroad (churches, hospitals, school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: African ethnograph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y were biomedical institutions, medicines and activities not studi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ceptively famil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“cultural” (but sc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acce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thropology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studying biomedical 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how culture presented obstacles to biomedicine (vaccination, health seeking, self-care,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xample of pharmaceuticals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My ‘discovery’ in Gh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dern pharmaceuticals were the most frequently used treatment in Gh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ple of “contraceptive” Alop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miliar medicines proved “exotic” after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I become exotic to myself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nthropology of pharmaceutic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ing at medicines as social and cultural pheno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cial, cultural, emotional (etc) efficacies team up with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INES HAV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ic efficacy (concreteness, ‘good to think with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B. All contribute to medical effic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CIAL LIVES OF MEDICINES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. The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2. Mothers and childr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3. Villagers and local remed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4.Women in dist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5. Sceptical consum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II. Th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6. Drug vendors and their mark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7. ‘Pharmacists’ as ‘doctors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8. Injectioni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9. Prescribing doctors: </a:t>
            </a: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IV. The Strateg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0. Manufacturers: scientific claims, commercial 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  <a:ea typeface="Times New Roman"/>
              </a:rPr>
              <a:t>11. Health planners: making and contesting drug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4:32:54Z</dcterms:created>
  <dc:creator>svandergeest</dc:creator>
  <dc:description/>
  <dc:language>en-US</dc:language>
  <cp:lastModifiedBy>Owner</cp:lastModifiedBy>
  <dcterms:modified xsi:type="dcterms:W3CDTF">2013-11-18T13:41:24Z</dcterms:modified>
  <cp:revision>8</cp:revision>
  <dc:subject/>
  <dc:title>SOCIAL AND CULTURAL EFFECTS OF MEDICINES</dc:title>
</cp:coreProperties>
</file>